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416D-3318-4076-BEC4-B993726B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F57B-9A67-4D80-B758-0B6A3AD83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7659-AC67-4A85-8E45-782B53AFF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CC09-3725-4722-BCB8-BEAA6CCF0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AFF4-7455-4EEE-8782-7FD10435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65FE-0CA9-4DAB-AE78-DD6179C9A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070A-F5C7-44A0-871B-1D79EF4EB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DFFD-1BDF-46FD-AF51-D982C5CCF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B4FF-C422-4354-BC42-10F0A7009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54B1-08AE-4786-A5BB-B70A4F3A8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CB4D-FFDE-4C71-9694-F532D2650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3446-0BEC-498C-BC3E-BCCE9C682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6206-2B19-4F81-BDDA-36A46197D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DAE-FF57-4F79-802D-547F3F8A8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8D5B-55A3-4EB8-8F7D-C3DBD3054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78B6-81DE-4E62-81AB-28DEE508D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739F-EA12-43C0-9DC7-E81226CD2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2F69-5137-4444-9039-26BCFF00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6F22-0A25-45EA-80E6-BCA987191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DFBE-CCF3-492D-AF3A-78D89D7FE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38CF-4DCC-4B24-98B2-8893B9941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529F-32A0-4605-825E-589DA3947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8275-A26D-4254-8890-A47B8554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2AAA-2997-47C4-96DA-E3DDFC156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197C-C725-4CD2-9D09-21590BEE0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1B15-0E3C-452A-890D-087BDBCB2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9328-197C-4026-B840-A9BDE2936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0B25-0618-492C-8B77-55739B696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139-499A-4F47-8719-36BD773E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1F3-7925-4CEC-B0B8-F0E175B0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951-08A7-4BEE-ABB4-A21C5E87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E54-027F-4629-B04B-0BC5BD3E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EEF9-0B27-471F-9821-5235D3D6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DCA5-2582-4916-8CA1-5772BF6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5A7C-A078-4E29-9A63-5DF0E2A0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705B-ACEA-494C-981A-72B91D12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407D-17A5-4236-A372-870E61BE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9848-9D98-42E6-9774-561D389C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974A-A929-4FA5-831D-8ED0FF13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FB2-2D90-4E07-AF83-9F37AA6B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F94D-3A2E-4BF8-98D6-A7497BAF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9065-A73C-4F3B-9117-E66DCBD0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E5BC-978B-4414-AA87-22DA8F12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4820-AF58-48F0-AEEB-2F15B4E8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214D-2914-4985-95FB-98FA2DDC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1148-877B-4D8C-8568-4DDBFAF8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42D7-FBD8-4BC2-AEB6-1D78A9EF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C7406-4A4D-476D-968A-18397629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2CF2-0300-4C66-806F-26C13506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E4895-B656-4355-BD46-BC1C5C4A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DF9-639D-4797-991D-CAD721B4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3B93D-528B-47E0-A262-AC1600C5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0CED-83FA-46DC-8CAB-5ECB62BC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FFC4-4209-4667-A60A-279B2482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68FA-FD3F-4FB2-8BC5-BEEE96DA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7936-7E77-4C97-9CBE-420EAD91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8D2B-0AC2-42CA-877E-FEAACCC8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226B7-30AF-44FA-A5CD-4AB828C8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D1924-74FE-46D7-83F8-277F955D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056C5-A3FC-4CDE-91A6-6C1C9263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84F57-988D-4922-B269-BC89C59A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351-C581-4101-930C-9C9620A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EFF2D-A19E-4DB6-9563-33C4C4CA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AE6A-C4CA-4FF8-A524-0F319998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F88A-F0BE-4DCF-801F-E92443A9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5B549-5E97-41BD-9194-83B45C28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E8B5-DF17-44CE-9099-953B2B83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6130-7D2C-48EE-BCAF-8F100024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F95AE-D373-4DF8-9B30-358D792B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8BB9-51E3-411D-A8F0-C5AADC16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0E876-1B45-4ADE-A18C-5BFC9A49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84B-1D1E-47A9-95C4-FCC6077F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03F-5987-428E-9A60-A26D80A4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58A-8FBD-449D-8FB4-B9D022AC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2D9-3DA7-4AD6-A52D-AC7B2F31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383-EF0A-4A37-935D-2B1C23DD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200B-2B09-4276-968E-058B24F1C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0A5A-E8DD-43E3-8D6B-7BF474EDDD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639E-D3BE-4844-87D9-CD27619AC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87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88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C61F-7CCD-4D32-8CA7-375083480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rview Proc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2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echnical Scre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questions and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your skills for the pos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site intervi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members of th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first level manag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ake a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site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critical members of th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higher level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fit with team and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l the company and the 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anager may present you with an offer at end of last round -- verbal or writ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ikely, hiring manager will call you to make a verbal o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entire compensation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y, stock, and benef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s negot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offer i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period to accept the o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extensions usually gra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Interview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vorit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most proud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ide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me about a challenging problem and how you solv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for thoughts on a current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your skills in 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in" orient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al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e candidate in a situation and ask the candidate to describe how they would handle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candidate’s though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candidate’s futur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echnic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se gr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, what else, what el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candidate’s depth and ability to think outside the b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s to Microsoft’s prestig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the best of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s a sense of valu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your interest in the company and the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on is a trump c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looking for a match too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you be happy in this positi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 interested, but not s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nsation is negot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what you have learned about the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 responsibilities and expec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what you have to off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 your background and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view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u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to Indus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didat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hallenges do the company and the department face?  What’s the pl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eps you up at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iring manager’s sty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grams and resources are available for personal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, Men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ition Reimburs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ansition to Indust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Phases of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Non-Contrib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Contrib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s throug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s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in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out" orient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Most Valuable As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clock"/>
          <p:cNvPicPr/>
          <p:nvPr/>
        </p:nvPicPr>
        <p:blipFill>
          <a:blip r:embed="rId1"/>
          <a:srcRect l="1534" t="4509" r="1541" b="1515"/>
          <a:stretch/>
        </p:blipFill>
        <p:spPr>
          <a:xfrm>
            <a:off x="2209680" y="1676520"/>
            <a:ext cx="4726080" cy="47242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olympic medals"/>
          <p:cNvPicPr/>
          <p:nvPr/>
        </p:nvPicPr>
        <p:blipFill>
          <a:blip r:embed="rId1"/>
          <a:srcRect l="0" t="6254" r="0" b="0"/>
          <a:stretch/>
        </p:blipFill>
        <p:spPr>
          <a:xfrm>
            <a:off x="1874880" y="2209680"/>
            <a:ext cx="5396040" cy="34275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versus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black-bear_1383"/>
          <p:cNvPicPr/>
          <p:nvPr/>
        </p:nvPicPr>
        <p:blipFill>
          <a:blip r:embed="rId1"/>
          <a:stretch/>
        </p:blipFill>
        <p:spPr>
          <a:xfrm>
            <a:off x="1600200" y="1981080"/>
            <a:ext cx="5945040" cy="39751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Dri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3048120" y="2057400"/>
            <a:ext cx="5602320" cy="4389480"/>
            <a:chOff x="3048120" y="2057400"/>
            <a:chExt cx="5602320" cy="4389480"/>
          </a:xfrm>
        </p:grpSpPr>
        <p:grpSp>
          <p:nvGrpSpPr>
            <p:cNvPr id="307" name="Group 4"/>
            <p:cNvGrpSpPr/>
            <p:nvPr/>
          </p:nvGrpSpPr>
          <p:grpSpPr>
            <a:xfrm>
              <a:off x="6858000" y="4721400"/>
              <a:ext cx="1792440" cy="1725480"/>
              <a:chOff x="6858000" y="4721400"/>
              <a:chExt cx="1792440" cy="1725480"/>
            </a:xfrm>
          </p:grpSpPr>
          <p:pic>
            <p:nvPicPr>
              <p:cNvPr id="308" name="Picture 5" descr="bnr"/>
              <p:cNvPicPr/>
              <p:nvPr/>
            </p:nvPicPr>
            <p:blipFill>
              <a:blip r:embed="rId1"/>
              <a:stretch/>
            </p:blipFill>
            <p:spPr>
              <a:xfrm>
                <a:off x="7396200" y="4721400"/>
                <a:ext cx="71604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Picture 6" descr="Nortel_logo"/>
              <p:cNvPicPr/>
              <p:nvPr/>
            </p:nvPicPr>
            <p:blipFill>
              <a:blip r:embed="rId2"/>
              <a:stretch/>
            </p:blipFill>
            <p:spPr>
              <a:xfrm>
                <a:off x="6858000" y="5102280"/>
                <a:ext cx="1792440" cy="1344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0" name="Picture 7" descr="oracle-logo"/>
            <p:cNvPicPr/>
            <p:nvPr/>
          </p:nvPicPr>
          <p:blipFill>
            <a:blip r:embed="rId3"/>
            <a:stretch/>
          </p:blipFill>
          <p:spPr>
            <a:xfrm>
              <a:off x="3324240" y="2819520"/>
              <a:ext cx="161280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8" descr="Red_Brick_logo"/>
            <p:cNvPicPr/>
            <p:nvPr/>
          </p:nvPicPr>
          <p:blipFill>
            <a:blip r:embed="rId4"/>
            <a:stretch/>
          </p:blipFill>
          <p:spPr>
            <a:xfrm>
              <a:off x="4114800" y="2057400"/>
              <a:ext cx="3138480" cy="61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9" descr="Accrue_logo"/>
            <p:cNvPicPr/>
            <p:nvPr/>
          </p:nvPicPr>
          <p:blipFill>
            <a:blip r:embed="rId5"/>
            <a:stretch/>
          </p:blipFill>
          <p:spPr>
            <a:xfrm>
              <a:off x="7296120" y="3124080"/>
              <a:ext cx="91440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10" descr="NVL_logo"/>
            <p:cNvPicPr/>
            <p:nvPr/>
          </p:nvPicPr>
          <p:blipFill>
            <a:blip r:embed="rId6"/>
            <a:stretch/>
          </p:blipFill>
          <p:spPr>
            <a:xfrm>
              <a:off x="3048120" y="4876920"/>
              <a:ext cx="223524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11" descr="cranite_logo"/>
            <p:cNvPicPr/>
            <p:nvPr/>
          </p:nvPicPr>
          <p:blipFill>
            <a:blip r:embed="rId7"/>
            <a:stretch/>
          </p:blipFill>
          <p:spPr>
            <a:xfrm>
              <a:off x="4724280" y="3632040"/>
              <a:ext cx="1905120" cy="88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12"/>
          <p:cNvGrpSpPr/>
          <p:nvPr/>
        </p:nvGrpSpPr>
        <p:grpSpPr>
          <a:xfrm>
            <a:off x="304920" y="1905120"/>
            <a:ext cx="1974600" cy="4541760"/>
            <a:chOff x="304920" y="1905120"/>
            <a:chExt cx="1974600" cy="4541760"/>
          </a:xfrm>
        </p:grpSpPr>
        <p:pic>
          <p:nvPicPr>
            <p:cNvPr id="316" name="Picture 13" descr="georgia tech logo"/>
            <p:cNvPicPr/>
            <p:nvPr/>
          </p:nvPicPr>
          <p:blipFill>
            <a:blip r:embed="rId8"/>
            <a:stretch/>
          </p:blipFill>
          <p:spPr>
            <a:xfrm>
              <a:off x="304920" y="1905120"/>
              <a:ext cx="1974600" cy="19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4" descr="illinois-logo"/>
            <p:cNvPicPr/>
            <p:nvPr/>
          </p:nvPicPr>
          <p:blipFill>
            <a:blip r:embed="rId9"/>
            <a:stretch/>
          </p:blipFill>
          <p:spPr>
            <a:xfrm>
              <a:off x="380880" y="4654440"/>
              <a:ext cx="1792440" cy="179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12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degree of match between candidate and emplo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andidate looking fo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the candidate help the compan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how candidate will per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how candidate will fit with the team and the corporate cul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oti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obj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ut all your eggs in one bas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both sides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from this job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company ne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what you can do f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, Department, Hiring Mana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er may receive hundreds of res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ing tak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res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candi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n off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cost to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ersonnel only meet top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view Proc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Scr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bjec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lify you for on-site vis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o know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personality and charac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technical skill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 the company and pos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uge your level of inte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- 45 minute phone call with hiring manager and/or recru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3:26:43Z</dcterms:created>
  <dc:creator/>
  <dc:description/>
  <dc:language>en-US</dc:language>
  <cp:lastModifiedBy>Bright</cp:lastModifiedBy>
  <dcterms:modified xsi:type="dcterms:W3CDTF">2013-08-22T13:27:46Z</dcterms:modified>
  <cp:revision>86</cp:revision>
  <dc:subject/>
  <dc:title>Interview Process</dc:title>
</cp:coreProperties>
</file>